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05D-EA83-436A-8F9A-9F1FD3D4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9D2-B8B0-43F0-9ABC-2A9FF8CB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9DE-A303-4F2D-9C22-4B42D5A0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F0E-D6AE-452A-8AF2-180E7429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7992-B3FA-4BEC-A979-2D9892A2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429B-98F7-457F-81DC-4B7B281F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8DF3-E62F-4D78-83E7-B46E9B26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C620-7672-48B5-BE5D-934063EF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192F-4D18-4690-AC87-ED9491D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BA43-CBB4-40DB-9CCB-92DB30F1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5601-827E-414F-9835-885FEFA0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433-043D-41A0-87D7-27A9B1AE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6CC3-0B4D-4D3D-8279-A3E7D34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4C3B-A537-43B5-BEAD-E2993DE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5C13-3CBD-4636-AA52-A93EEAAC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B7A2-88BF-4CFE-BFBD-F0ACBB4D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06B4-42F3-41A2-9D4A-2C488A78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16A-0317-4F5C-8B03-85ADC14A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F80-6480-4B00-A5FA-CC7344CC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E87-6677-4780-AFF9-1A3F1440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3A5B-B95E-48D0-8A74-3A7B517E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95B-F710-4EC1-B21A-3B307897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04C-C87E-48D4-AF8E-6820398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8BF-8FB7-41C2-BACF-13D60E80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67040" cy="882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993680" cy="7826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898D-DA5A-4304-ACC4-F934A6E6F4E6}" type="slidenum"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752480" y="228600"/>
            <a:ext cx="510552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9900"/>
                </a:solidFill>
                <a:latin typeface="Arial"/>
              </a:rPr>
              <a:t>IST-2001-33570 - INFOM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9900"/>
                </a:solidFill>
                <a:latin typeface="Arial"/>
              </a:rPr>
              <a:t>Boosting Information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67040" cy="88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99368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B68F-F785-4B9A-9798-7BD3290730A9}" type="slidenum"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5943600"/>
            <a:ext cx="7162560" cy="99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Antique Olv (W1)"/>
              </a:rPr>
              <a:t>Project funded by the Future and Emerging</a:t>
            </a:r>
            <a:r>
              <a:rPr b="1" lang="it-IT" sz="2800" spc="-1" strike="noStrike">
                <a:solidFill>
                  <a:srgbClr val="ff9900"/>
                </a:solidFill>
                <a:latin typeface="Antique Olv (W1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Antique Olv (W1)"/>
              </a:rPr>
              <a:t>Technologies Arm of the IST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INFOMIX System for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formation Integration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(IST-2001-33570)</a:t>
            </a:r>
            <a:endParaRPr b="1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mas Ei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itut für Informationssyste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sche Universität Wi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ww.kr.tuwien.ac.at/staff/ei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ject Objective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go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information integration using computational logic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Information Integr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 with incomplete / inconsistent inform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omputational logic engines for reason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e results on data acquisition and transformation (including data extr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ject Partners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Rome, La Sapienza  (Ita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of Calabria (Ita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 Wien  (Aust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dan Systems (Po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mentary expertise on data integration, LP and DB engines, data transformation, DB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ceptual System Architecture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7724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sults/Contributions (so far)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, formal Information Integration Model (Generalizing GAV/LA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foundations: complexity, algorithms, rewriting to log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of DLV Disjunctive Datalog engine (aggregates, magic 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ing techniques for scalability (early stag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ig challen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FOMIX Publications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fic Papers: PODS, VLDB, IJCAI, ICL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MIX Report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ttp://www.mat.unical.it/info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rototype:  04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0:22:10Z</dcterms:created>
  <dc:creator>eiter</dc:creator>
  <dc:description/>
  <dc:language>en-US</dc:language>
  <cp:lastModifiedBy>eiter</cp:lastModifiedBy>
  <dcterms:modified xsi:type="dcterms:W3CDTF">2003-08-22T17:57:52Z</dcterms:modified>
  <cp:revision>69</cp:revision>
  <dc:subject/>
  <dc:title>WP 8: Assessment and           Dissemination </dc:title>
</cp:coreProperties>
</file>