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5235-560B-4698-8540-D51A4776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C40C-8F32-4F54-ADAD-A488770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72DD-13AA-43EB-91BB-70318D33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7E7B-A4F4-4474-8EA9-1255F07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C227-DFAE-4C7C-A897-B2933BA0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5C82-D420-47D7-BB65-F61036E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8CE8-9DBA-4532-8220-3474E0BC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016F-4708-4F4D-89F1-BBD3184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FD17-7666-4075-8FE2-A12DEBD0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0E6C-A45D-4347-A47E-64C9745D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C95-0525-4A4C-A6DC-2ABDD027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798C-A368-43B1-811F-76C8BDC9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8B8B-DA66-4F4D-8B60-D35463A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F06-6174-4501-80EF-C742EDE3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CB17-B89B-48EA-AFC4-7A355E55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2F3A-483B-410C-B454-B7E5B413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4E7F-C844-4896-B135-F496989C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CD2D-19D3-4E26-94F5-422D3CF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FBF3-4A39-48C5-9B40-B6E8146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DC31-8684-47CF-8FA3-899D74FE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73EB-68E8-419D-A8F4-03AA46D6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A96B-2E3A-4128-BE37-B0A068C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60D6-EFEA-4447-9B07-277D3FBD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3A95-0EAC-4643-846D-C302959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F3AB-8136-453C-8B22-ED935F1C107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8631-1754-4EAF-BAF9-B27074E8FEF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ostart.de/" TargetMode="External"/><Relationship Id="rId2" Type="http://schemas.openxmlformats.org/officeDocument/2006/relationships/hyperlink" Target="http://www.lostart.de/" TargetMode="External"/><Relationship Id="rId3" Type="http://schemas.openxmlformats.org/officeDocument/2006/relationships/hyperlink" Target="http://www.lostart.de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start.de/" TargetMode="External"/><Relationship Id="rId2" Type="http://schemas.openxmlformats.org/officeDocument/2006/relationships/hyperlink" Target="http://www.herkomstgezocht.nl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Towards Rule-based Mapping in</a:t>
            </a:r>
            <a:br>
              <a:rPr sz="4000"/>
            </a:br>
            <a:r>
              <a:rPr b="1" lang="de-DE" sz="4000" spc="-1" strike="noStrike">
                <a:solidFill>
                  <a:srgbClr val="e5e5ff"/>
                </a:solidFill>
                <a:latin typeface="Garamond"/>
              </a:rPr>
              <a:t>Ontology-based Mediato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280" y="422064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ai-Uwe Sattler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Gunter Saake</a:t>
            </a:r>
            <a:br>
              <a:rPr sz="3200"/>
            </a:br>
            <a:r>
              <a:rPr b="0" i="1" lang="de-DE" sz="3200" spc="-1" strike="noStrike">
                <a:solidFill>
                  <a:srgbClr val="ffffff"/>
                </a:solidFill>
                <a:latin typeface="Garamond"/>
              </a:rPr>
              <a:t>University of Magdeb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117320" y="4292640"/>
            <a:ext cx="433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tefan Con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University of Duesseldor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360" y="404640"/>
            <a:ext cx="51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5e5ff"/>
                </a:solidFill>
                <a:latin typeface="Arial"/>
              </a:rPr>
              <a:t>CoLogNET Workshop </a:t>
            </a:r>
            <a:br>
              <a:rPr sz="1800"/>
            </a:br>
            <a:r>
              <a:rPr b="0" lang="de-DE" sz="1800" spc="-1" strike="noStrike">
                <a:solidFill>
                  <a:srgbClr val="e5e5ff"/>
                </a:solidFill>
                <a:latin typeface="Arial"/>
              </a:rPr>
              <a:t>Logic-based Methods for Information Integration </a:t>
            </a:r>
            <a:br>
              <a:rPr sz="1800"/>
            </a:br>
            <a:r>
              <a:rPr b="0" lang="de-DE" sz="1800" spc="-1" strike="noStrike">
                <a:solidFill>
                  <a:srgbClr val="e5e5ff"/>
                </a:solidFill>
                <a:latin typeface="Arial"/>
              </a:rPr>
              <a:t>Wien, 23.8.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Yacob Mediator: Archite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"/>
          <p:cNvSpPr/>
          <p:nvPr/>
        </p:nvSpPr>
        <p:spPr>
          <a:xfrm>
            <a:off x="5699160" y="2563920"/>
            <a:ext cx="990720" cy="83808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9960" y="2639880"/>
            <a:ext cx="2819520" cy="91440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9960" y="3706920"/>
            <a:ext cx="4724280" cy="106668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46880" y="2411280"/>
            <a:ext cx="2666880" cy="114300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41760" y="1420920"/>
            <a:ext cx="1752480" cy="30456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Query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8080" y="3859200"/>
            <a:ext cx="1523880" cy="30492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Data Ac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18080" y="4316400"/>
            <a:ext cx="1523880" cy="30492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Web Service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41560" y="5307120"/>
            <a:ext cx="1523880" cy="30456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Web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76960" y="42400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Cache-D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9160" y="3097080"/>
            <a:ext cx="609480" cy="30492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RDQ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24080" y="266688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Jena A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99360" y="248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RDF-D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22440" y="3859200"/>
            <a:ext cx="914400" cy="30492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Xind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1760" y="1878120"/>
            <a:ext cx="1752480" cy="167616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336" y="0"/>
                </a:moveTo>
                <a:lnTo>
                  <a:pt x="336" y="768"/>
                </a:lnTo>
                <a:lnTo>
                  <a:pt x="1056" y="768"/>
                </a:lnTo>
                <a:lnTo>
                  <a:pt x="1056" y="1008"/>
                </a:lnTo>
                <a:lnTo>
                  <a:pt x="0" y="1008"/>
                </a:lnTo>
                <a:lnTo>
                  <a:pt x="0" y="0"/>
                </a:lnTo>
                <a:lnTo>
                  <a:pt x="336" y="0"/>
                </a:lnTo>
                <a:close/>
              </a:path>
            </a:pathLst>
          </a:cu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27560" y="1878120"/>
            <a:ext cx="1066680" cy="114300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03880" y="2030400"/>
            <a:ext cx="914400" cy="22860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Par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03880" y="2563920"/>
            <a:ext cx="914400" cy="22860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Rewri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64880" y="3200400"/>
            <a:ext cx="155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Query Exec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71" idx="2"/>
            <a:endCxn id="272" idx="0"/>
          </p:cNvCxnSpPr>
          <p:nvPr/>
        </p:nvCxnSpPr>
        <p:spPr>
          <a:xfrm>
            <a:off x="4860720" y="2258640"/>
            <a:ext cx="1080" cy="305640"/>
          </a:xfrm>
          <a:prstGeom prst="straightConnector1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</p:cxnSp>
      <p:sp>
        <p:nvSpPr>
          <p:cNvPr id="275" name=""/>
          <p:cNvSpPr/>
          <p:nvPr/>
        </p:nvSpPr>
        <p:spPr>
          <a:xfrm>
            <a:off x="7527960" y="2792520"/>
            <a:ext cx="457200" cy="380880"/>
          </a:xfrm>
          <a:prstGeom prst="can">
            <a:avLst>
              <a:gd name="adj" fmla="val 25000"/>
            </a:avLst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70160" y="2868480"/>
            <a:ext cx="1066680" cy="45720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XS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27160" y="3782880"/>
            <a:ext cx="457200" cy="457200"/>
          </a:xfrm>
          <a:prstGeom prst="can">
            <a:avLst>
              <a:gd name="adj" fmla="val 25000"/>
            </a:avLst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98560" y="2716200"/>
            <a:ext cx="609120" cy="762120"/>
            <a:chOff x="898560" y="2716200"/>
            <a:chExt cx="609120" cy="762120"/>
          </a:xfrm>
        </p:grpSpPr>
        <p:sp>
          <p:nvSpPr>
            <p:cNvPr id="279" name=""/>
            <p:cNvSpPr/>
            <p:nvPr/>
          </p:nvSpPr>
          <p:spPr>
            <a:xfrm flipV="1">
              <a:off x="1050840" y="2716200"/>
              <a:ext cx="456840" cy="457200"/>
            </a:xfrm>
            <a:prstGeom prst="foldedCorner">
              <a:avLst>
                <a:gd name="adj" fmla="val 38754"/>
              </a:avLst>
            </a:prstGeom>
            <a:solidFill>
              <a:srgbClr val="e5e5ff">
                <a:alpha val="50000"/>
              </a:srgbClr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74520" y="2868840"/>
              <a:ext cx="456840" cy="457200"/>
            </a:xfrm>
            <a:prstGeom prst="foldedCorner">
              <a:avLst>
                <a:gd name="adj" fmla="val 38754"/>
              </a:avLst>
            </a:prstGeom>
            <a:solidFill>
              <a:srgbClr val="e5e5ff">
                <a:alpha val="50000"/>
              </a:srgbClr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98560" y="3021120"/>
              <a:ext cx="456840" cy="457200"/>
            </a:xfrm>
            <a:prstGeom prst="foldedCorner">
              <a:avLst>
                <a:gd name="adj" fmla="val 38754"/>
              </a:avLst>
            </a:prstGeom>
            <a:solidFill>
              <a:srgbClr val="e5e5ff">
                <a:alpha val="50000"/>
              </a:srgbClr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794040" y="5307120"/>
            <a:ext cx="1524240" cy="30456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Web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6880" y="5307120"/>
            <a:ext cx="1523880" cy="304560"/>
          </a:xfrm>
          <a:prstGeom prst="rect">
            <a:avLst/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Web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22440" y="5764320"/>
            <a:ext cx="762120" cy="457200"/>
          </a:xfrm>
          <a:prstGeom prst="can">
            <a:avLst>
              <a:gd name="adj" fmla="val 25000"/>
            </a:avLst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5280" y="5764320"/>
            <a:ext cx="761760" cy="457200"/>
          </a:xfrm>
          <a:prstGeom prst="can">
            <a:avLst>
              <a:gd name="adj" fmla="val 25000"/>
            </a:avLst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27760" y="5764320"/>
            <a:ext cx="762120" cy="457200"/>
          </a:xfrm>
          <a:prstGeom prst="can">
            <a:avLst>
              <a:gd name="adj" fmla="val 25000"/>
            </a:avLst>
          </a:prstGeom>
          <a:solidFill>
            <a:srgbClr val="e5e5ff">
              <a:alpha val="50000"/>
            </a:srgbClr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62" idx="2"/>
            <a:endCxn id="263" idx="0"/>
          </p:cNvCxnSpPr>
          <p:nvPr/>
        </p:nvCxnSpPr>
        <p:spPr>
          <a:xfrm flipH="1">
            <a:off x="2803320" y="4620960"/>
            <a:ext cx="1676880" cy="686520"/>
          </a:xfrm>
          <a:prstGeom prst="straightConnector1">
            <a:avLst/>
          </a:prstGeom>
          <a:ln w="9360">
            <a:solidFill>
              <a:srgbClr val="000514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288" name=""/>
          <p:cNvCxnSpPr>
            <a:stCxn id="262" idx="2"/>
            <a:endCxn id="282" idx="0"/>
          </p:cNvCxnSpPr>
          <p:nvPr/>
        </p:nvCxnSpPr>
        <p:spPr>
          <a:xfrm>
            <a:off x="4479840" y="4620960"/>
            <a:ext cx="76680" cy="686520"/>
          </a:xfrm>
          <a:prstGeom prst="straightConnector1">
            <a:avLst/>
          </a:prstGeom>
          <a:ln w="9360">
            <a:solidFill>
              <a:srgbClr val="000514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289" name=""/>
          <p:cNvCxnSpPr>
            <a:stCxn id="262" idx="2"/>
            <a:endCxn id="283" idx="0"/>
          </p:cNvCxnSpPr>
          <p:nvPr/>
        </p:nvCxnSpPr>
        <p:spPr>
          <a:xfrm>
            <a:off x="4479840" y="4620960"/>
            <a:ext cx="1829520" cy="686520"/>
          </a:xfrm>
          <a:prstGeom prst="straightConnector1">
            <a:avLst/>
          </a:prstGeom>
          <a:ln w="9360">
            <a:solidFill>
              <a:srgbClr val="000514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0" name=""/>
          <p:cNvSpPr/>
          <p:nvPr/>
        </p:nvSpPr>
        <p:spPr>
          <a:xfrm>
            <a:off x="5585040" y="43164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Access 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5440" y="370692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Concept managem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97360" y="1725480"/>
            <a:ext cx="24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Query planning 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89280" y="16495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Query exec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030400"/>
            <a:ext cx="15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76" idx="1"/>
            <a:endCxn id="280" idx="3"/>
          </p:cNvCxnSpPr>
          <p:nvPr/>
        </p:nvCxnSpPr>
        <p:spPr>
          <a:xfrm flipH="1">
            <a:off x="1429560" y="3096720"/>
            <a:ext cx="840600" cy="1080"/>
          </a:xfrm>
          <a:prstGeom prst="straightConnector1">
            <a:avLst/>
          </a:prstGeom>
          <a:ln w="9360">
            <a:solidFill>
              <a:srgbClr val="000514"/>
            </a:solidFill>
            <a:miter/>
          </a:ln>
        </p:spPr>
      </p:cxnSp>
      <p:cxnSp>
        <p:nvCxnSpPr>
          <p:cNvPr id="296" name=""/>
          <p:cNvCxnSpPr>
            <a:stCxn id="268" idx="1"/>
            <a:endCxn id="277" idx="4"/>
          </p:cNvCxnSpPr>
          <p:nvPr/>
        </p:nvCxnSpPr>
        <p:spPr>
          <a:xfrm flipH="1">
            <a:off x="1584000" y="4011120"/>
            <a:ext cx="838800" cy="1080"/>
          </a:xfrm>
          <a:prstGeom prst="straightConnector1">
            <a:avLst/>
          </a:prstGeom>
          <a:ln w="9360">
            <a:solidFill>
              <a:srgbClr val="000514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4861080" y="1725480"/>
            <a:ext cx="0" cy="3049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61080" y="2792520"/>
            <a:ext cx="0" cy="380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3554280"/>
            <a:ext cx="0" cy="3049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022640" y="3553920"/>
            <a:ext cx="0" cy="3049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946680" y="1725480"/>
            <a:ext cx="0" cy="1526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022640" y="4163760"/>
            <a:ext cx="0" cy="1522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61080" y="4164120"/>
            <a:ext cx="0" cy="1522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336480" y="3935520"/>
            <a:ext cx="381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36840" y="4087800"/>
            <a:ext cx="381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6840" y="3021120"/>
            <a:ext cx="30492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36480" y="3249720"/>
            <a:ext cx="30492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4240" y="3325680"/>
            <a:ext cx="30492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18280" y="2716200"/>
            <a:ext cx="380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56" idx="3"/>
            <a:endCxn id="275" idx="2"/>
          </p:cNvCxnSpPr>
          <p:nvPr/>
        </p:nvCxnSpPr>
        <p:spPr>
          <a:xfrm>
            <a:off x="6689880" y="2982600"/>
            <a:ext cx="838800" cy="1080"/>
          </a:xfrm>
          <a:prstGeom prst="straightConnector1">
            <a:avLst/>
          </a:prstGeom>
          <a:ln w="9360">
            <a:solidFill>
              <a:srgbClr val="000514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3946680" y="4925880"/>
            <a:ext cx="114300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514"/>
                </a:solidFill>
                <a:latin typeface="Tahoma"/>
              </a:rPr>
              <a:t>SOAP/HTT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263" idx="2"/>
            <a:endCxn id="284" idx="1"/>
          </p:cNvCxnSpPr>
          <p:nvPr/>
        </p:nvCxnSpPr>
        <p:spPr>
          <a:xfrm>
            <a:off x="2803320" y="5611680"/>
            <a:ext cx="1080" cy="153360"/>
          </a:xfrm>
          <a:prstGeom prst="straightConnector1">
            <a:avLst/>
          </a:prstGeom>
          <a:ln w="9360">
            <a:solidFill>
              <a:srgbClr val="000514"/>
            </a:solidFill>
            <a:miter/>
          </a:ln>
        </p:spPr>
      </p:cxnSp>
      <p:cxnSp>
        <p:nvCxnSpPr>
          <p:cNvPr id="313" name=""/>
          <p:cNvCxnSpPr>
            <a:stCxn id="282" idx="2"/>
            <a:endCxn id="285" idx="1"/>
          </p:cNvCxnSpPr>
          <p:nvPr/>
        </p:nvCxnSpPr>
        <p:spPr>
          <a:xfrm>
            <a:off x="4555800" y="5611680"/>
            <a:ext cx="1080" cy="153360"/>
          </a:xfrm>
          <a:prstGeom prst="straightConnector1">
            <a:avLst/>
          </a:prstGeom>
          <a:ln w="9360">
            <a:solidFill>
              <a:srgbClr val="000514"/>
            </a:solidFill>
            <a:miter/>
          </a:ln>
        </p:spPr>
      </p:cxnSp>
      <p:cxnSp>
        <p:nvCxnSpPr>
          <p:cNvPr id="314" name=""/>
          <p:cNvCxnSpPr>
            <a:stCxn id="283" idx="2"/>
            <a:endCxn id="286" idx="1"/>
          </p:cNvCxnSpPr>
          <p:nvPr/>
        </p:nvCxnSpPr>
        <p:spPr>
          <a:xfrm>
            <a:off x="6308280" y="5611680"/>
            <a:ext cx="1080" cy="153360"/>
          </a:xfrm>
          <a:prstGeom prst="straightConnector1">
            <a:avLst/>
          </a:prstGeom>
          <a:ln w="9360">
            <a:solidFill>
              <a:srgbClr val="000514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1736640" y="2487600"/>
            <a:ext cx="152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13160" y="2106720"/>
            <a:ext cx="4572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241600" y="195408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918480" y="33253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317920" y="4508640"/>
            <a:ext cx="261720" cy="18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D6F2-2332-4CD0-852B-6BC0E01854F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The Yacob Media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toring, managing, and querying concept structures (RDF data) using Jena AP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XML data transformation using XSLT (source results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global resul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Access to source systems / wrappers via Web Serv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Input: simplified XPath que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Output: XML document with arbitrary DT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Query engine: CQuery parser, query planner, execution eng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Planning: eliminating redundant concepts, query rewriting, algebraic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xecution: implementation of extented algebra opera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493F-C569-4F06-84A4-0C6C7A35B3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CQue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XQuery-based query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FLWR expressions, XML element constr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Concept schema and source data form a </a:t>
            </a:r>
            <a:r>
              <a:rPr b="0" i="1" lang="de-DE" sz="2400" spc="-1" strike="noStrike">
                <a:solidFill>
                  <a:srgbClr val="ffffff"/>
                </a:solidFill>
                <a:latin typeface="Garamond"/>
              </a:rPr>
              <a:t>virtual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XML docu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xte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concept schema as pseudo element </a:t>
            </a:r>
            <a:r>
              <a:rPr b="0" lang="de-DE" sz="2000" spc="-1" strike="noStrike">
                <a:solidFill>
                  <a:srgbClr val="ffcc00"/>
                </a:solidFill>
                <a:latin typeface="Verdana"/>
              </a:rPr>
              <a:t>concept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(e.g., </a:t>
            </a:r>
            <a:r>
              <a:rPr b="0" lang="de-DE" sz="2000" spc="-1" strike="noStrike">
                <a:solidFill>
                  <a:srgbClr val="ffcc00"/>
                </a:solidFill>
                <a:latin typeface="Verdana"/>
              </a:rPr>
              <a:t>FOR $c IN concept …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Traversing relationships using path expressions (e.g., </a:t>
            </a:r>
            <a:r>
              <a:rPr b="0" lang="de-DE" sz="2000" spc="-1" strike="noStrike">
                <a:solidFill>
                  <a:srgbClr val="ffcc00"/>
                </a:solidFill>
                <a:latin typeface="Verdana"/>
              </a:rPr>
              <a:t>subClassOf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Inverse traversing (e.g., </a:t>
            </a:r>
            <a:r>
              <a:rPr b="0" lang="de-DE" sz="1800" spc="-1" strike="noStrike">
                <a:solidFill>
                  <a:srgbClr val="ffcc00"/>
                </a:solidFill>
                <a:latin typeface="Verdana"/>
              </a:rPr>
              <a:t>!subClassOf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Transitive closure w.r.t a relationship (e.g., </a:t>
            </a:r>
            <a:r>
              <a:rPr b="0" lang="de-DE" sz="1800" spc="-1" strike="noStrike">
                <a:solidFill>
                  <a:srgbClr val="ffcc00"/>
                </a:solidFill>
                <a:latin typeface="Verdana"/>
              </a:rPr>
              <a:t>!subClassOf+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Function </a:t>
            </a:r>
            <a:r>
              <a:rPr b="0" lang="de-DE" sz="2000" spc="-1" strike="noStrike">
                <a:solidFill>
                  <a:srgbClr val="ffcc00"/>
                </a:solidFill>
                <a:latin typeface="Verdana"/>
              </a:rPr>
              <a:t>extension()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returns instances of a concep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8489-7962-43AD-9428-707963DC34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CQuery: Query form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electing concepts</a:t>
            </a:r>
            <a:br>
              <a:rPr sz="3200"/>
            </a:br>
            <a:r>
              <a:rPr b="1" lang="de-DE" sz="2800" spc="-1" strike="noStrike">
                <a:solidFill>
                  <a:srgbClr val="ffcc00"/>
                </a:solidFill>
                <a:latin typeface="Verdana"/>
              </a:rPr>
              <a:t>FOR</a:t>
            </a:r>
            <a:r>
              <a:rPr b="0" lang="de-DE" sz="2800" spc="-1" strike="noStrike">
                <a:solidFill>
                  <a:srgbClr val="ffcc00"/>
                </a:solidFill>
                <a:latin typeface="Verdana"/>
              </a:rPr>
              <a:t> $c </a:t>
            </a:r>
            <a:r>
              <a:rPr b="1" lang="de-DE" sz="2800" spc="-1" strike="noStrike">
                <a:solidFill>
                  <a:srgbClr val="ffcc00"/>
                </a:solidFill>
                <a:latin typeface="Verdana"/>
              </a:rPr>
              <a:t>IN</a:t>
            </a:r>
            <a:r>
              <a:rPr b="0" lang="de-DE" sz="2800" spc="-1" strike="noStrike">
                <a:solidFill>
                  <a:srgbClr val="ffcc00"/>
                </a:solidFill>
                <a:latin typeface="Verdana"/>
              </a:rPr>
              <a:t> concept[name=´painting´]/*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btaining extension(s)</a:t>
            </a:r>
            <a:br>
              <a:rPr sz="3200"/>
            </a:br>
            <a:r>
              <a:rPr b="1" lang="de-DE" sz="2800" spc="-1" strike="noStrike">
                <a:solidFill>
                  <a:srgbClr val="ffcc00"/>
                </a:solidFill>
                <a:latin typeface="Verdana"/>
              </a:rPr>
              <a:t>LET</a:t>
            </a:r>
            <a:r>
              <a:rPr b="0" lang="de-DE" sz="2800" spc="-1" strike="noStrike">
                <a:solidFill>
                  <a:srgbClr val="ffcc00"/>
                </a:solidFill>
                <a:latin typeface="Verdana"/>
              </a:rPr>
              <a:t> $e := extension($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Filtering source data</a:t>
            </a:r>
            <a:br>
              <a:rPr sz="3200"/>
            </a:br>
            <a:r>
              <a:rPr b="1" lang="de-DE" sz="2800" spc="-1" strike="noStrike">
                <a:solidFill>
                  <a:srgbClr val="ffcc00"/>
                </a:solidFill>
                <a:latin typeface="Verdana"/>
              </a:rPr>
              <a:t>WHERE</a:t>
            </a:r>
            <a:r>
              <a:rPr b="0" lang="de-DE" sz="2800" spc="-1" strike="noStrike">
                <a:solidFill>
                  <a:srgbClr val="ffcc00"/>
                </a:solidFill>
                <a:latin typeface="Verdana"/>
              </a:rPr>
              <a:t> $e/artist ~= ´Gogh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Result combination and projection</a:t>
            </a:r>
            <a:br>
              <a:rPr sz="3200"/>
            </a:br>
            <a:r>
              <a:rPr b="1" lang="de-DE" sz="2800" spc="-1" strike="noStrike">
                <a:solidFill>
                  <a:srgbClr val="ffcc00"/>
                </a:solidFill>
                <a:latin typeface="Verdana"/>
              </a:rPr>
              <a:t>RETURN</a:t>
            </a:r>
            <a:br>
              <a:rPr sz="2800"/>
            </a:br>
            <a:r>
              <a:rPr b="0" lang="de-DE" sz="2800" spc="-1" strike="noStrike">
                <a:solidFill>
                  <a:srgbClr val="ffcc00"/>
                </a:solidFill>
                <a:latin typeface="Verdana"/>
              </a:rPr>
              <a:t>&lt;painting&gt;&lt;title&gt;$e/name&lt;/title&gt;</a:t>
            </a:r>
            <a:br>
              <a:rPr sz="2800"/>
            </a:br>
            <a:r>
              <a:rPr b="0" lang="de-DE" sz="2800" spc="-1" strike="noStrike">
                <a:solidFill>
                  <a:srgbClr val="ffcc00"/>
                </a:solidFill>
                <a:latin typeface="Verdana"/>
              </a:rPr>
              <a:t>&lt;artist&gt;$e/artist&lt;/artist&gt;&lt;/painting&g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979D-8D13-400C-A35A-C087AC4F08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Yacob Mediator: Screensh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6059520" cy="3014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40384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2340-3D77-4FAF-968C-05B2B4C4DDC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Concept Map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oncept mapp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ocal XML element of a source to global conce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Additional filter predicate possib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roperty mapp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Path to local elements representing global proper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Value mapp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Map local literals to global categ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XSLT transformation can be derived from these mapp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C0B8-D53C-4088-BDB0-5DD608B99C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Concept Mapping /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"/>
          <p:cNvSpPr/>
          <p:nvPr/>
        </p:nvSpPr>
        <p:spPr>
          <a:xfrm>
            <a:off x="3851280" y="3284640"/>
            <a:ext cx="977760" cy="38556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ain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2525760"/>
            <a:ext cx="977760" cy="38556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fine 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30480" y="1600200"/>
            <a:ext cx="1433520" cy="38592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cultural as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3" idx="0"/>
            <a:endCxn id="334" idx="2"/>
          </p:cNvCxnSpPr>
          <p:nvPr/>
        </p:nvCxnSpPr>
        <p:spPr>
          <a:xfrm flipH="1" flipV="1">
            <a:off x="2847600" y="1995120"/>
            <a:ext cx="815040" cy="52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6" name=""/>
          <p:cNvCxnSpPr>
            <a:stCxn id="332" idx="0"/>
            <a:endCxn id="333" idx="2"/>
          </p:cNvCxnSpPr>
          <p:nvPr/>
        </p:nvCxnSpPr>
        <p:spPr>
          <a:xfrm flipH="1" flipV="1">
            <a:off x="3661560" y="2920320"/>
            <a:ext cx="67860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7" name=""/>
          <p:cNvSpPr/>
          <p:nvPr/>
        </p:nvSpPr>
        <p:spPr>
          <a:xfrm>
            <a:off x="6367320" y="1832040"/>
            <a:ext cx="78120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mot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13680" y="2679840"/>
            <a:ext cx="78264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still li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9" name=""/>
          <p:cNvCxnSpPr>
            <a:stCxn id="338" idx="0"/>
            <a:endCxn id="337" idx="2"/>
          </p:cNvCxnSpPr>
          <p:nvPr/>
        </p:nvCxnSpPr>
        <p:spPr>
          <a:xfrm flipH="1" flipV="1">
            <a:off x="6757200" y="2217240"/>
            <a:ext cx="848520" cy="462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0" name=""/>
          <p:cNvSpPr/>
          <p:nvPr/>
        </p:nvSpPr>
        <p:spPr>
          <a:xfrm>
            <a:off x="4151160" y="1600200"/>
            <a:ext cx="1108080" cy="385920"/>
          </a:xfrm>
          <a:prstGeom prst="ellipse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rt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1832040"/>
            <a:ext cx="1108080" cy="385560"/>
          </a:xfrm>
          <a:prstGeom prst="ellipse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34" idx="1"/>
            <a:endCxn id="341" idx="6"/>
          </p:cNvCxnSpPr>
          <p:nvPr/>
        </p:nvCxnSpPr>
        <p:spPr>
          <a:xfrm flipH="1">
            <a:off x="1869480" y="1792080"/>
            <a:ext cx="253080" cy="232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43" name=""/>
          <p:cNvCxnSpPr>
            <a:stCxn id="333" idx="0"/>
            <a:endCxn id="340" idx="4"/>
          </p:cNvCxnSpPr>
          <p:nvPr/>
        </p:nvCxnSpPr>
        <p:spPr>
          <a:xfrm flipV="1">
            <a:off x="3661920" y="1985760"/>
            <a:ext cx="1043640" cy="530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44" name=""/>
          <p:cNvCxnSpPr>
            <a:stCxn id="333" idx="3"/>
            <a:endCxn id="337" idx="1"/>
          </p:cNvCxnSpPr>
          <p:nvPr/>
        </p:nvCxnSpPr>
        <p:spPr>
          <a:xfrm flipV="1">
            <a:off x="4159080" y="2023560"/>
            <a:ext cx="2208960" cy="696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5" name=""/>
          <p:cNvSpPr/>
          <p:nvPr/>
        </p:nvSpPr>
        <p:spPr>
          <a:xfrm rot="20686200">
            <a:off x="4642200" y="21031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rtr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79280" y="2217240"/>
            <a:ext cx="7777440" cy="2869200"/>
            <a:chOff x="179280" y="2217240"/>
            <a:chExt cx="7777440" cy="2869200"/>
          </a:xfrm>
        </p:grpSpPr>
        <p:sp>
          <p:nvSpPr>
            <p:cNvPr id="347" name=""/>
            <p:cNvSpPr/>
            <p:nvPr/>
          </p:nvSpPr>
          <p:spPr>
            <a:xfrm>
              <a:off x="3635280" y="4149720"/>
              <a:ext cx="2016360" cy="936720"/>
            </a:xfrm>
            <a:prstGeom prst="foldedCorner">
              <a:avLst>
                <a:gd name="adj" fmla="val 12500"/>
              </a:avLst>
            </a:prstGeom>
            <a:solidFill>
              <a:srgbClr val="003399">
                <a:alpha val="7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000" y="4149720"/>
              <a:ext cx="2447640" cy="720720"/>
            </a:xfrm>
            <a:prstGeom prst="foldedCorner">
              <a:avLst>
                <a:gd name="adj" fmla="val 12500"/>
              </a:avLst>
            </a:prstGeom>
            <a:solidFill>
              <a:srgbClr val="0033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92360" y="4005360"/>
              <a:ext cx="2016360" cy="936360"/>
            </a:xfrm>
            <a:prstGeom prst="foldedCorner">
              <a:avLst>
                <a:gd name="adj" fmla="val 12500"/>
              </a:avLst>
            </a:prstGeom>
            <a:solidFill>
              <a:srgbClr val="003399">
                <a:alpha val="7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 u="sng">
                  <a:solidFill>
                    <a:srgbClr val="ffcc00"/>
                  </a:solidFill>
                  <a:uFillTx/>
                  <a:latin typeface="Arial"/>
                  <a:hlinkClick r:id="rId1"/>
                </a:rPr>
                <a:t>www.lostart.de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ffffff"/>
                  </a:solidFill>
                  <a:latin typeface="Arial"/>
                </a:rPr>
                <a:t>/object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ffffff"/>
                  </a:solidFill>
                  <a:latin typeface="Arial"/>
                </a:rPr>
                <a:t>type=´Painting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9280" y="4005360"/>
              <a:ext cx="2448000" cy="720720"/>
            </a:xfrm>
            <a:prstGeom prst="foldedCorner">
              <a:avLst>
                <a:gd name="adj" fmla="val 12500"/>
              </a:avLst>
            </a:prstGeom>
            <a:solidFill>
              <a:srgbClr val="003399">
                <a:alpha val="7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 u="sng">
                  <a:solidFill>
                    <a:srgbClr val="ffcc00"/>
                  </a:solidFill>
                  <a:uFillTx/>
                  <a:latin typeface="Arial"/>
                  <a:hlinkClick r:id="rId2"/>
                </a:rPr>
                <a:t>www.lostart.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ffffff"/>
                  </a:solidFill>
                  <a:latin typeface="Arial"/>
                </a:rPr>
                <a:t>/object/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27640" y="4006800"/>
              <a:ext cx="1729080" cy="647640"/>
            </a:xfrm>
            <a:prstGeom prst="foldedCorner">
              <a:avLst>
                <a:gd name="adj" fmla="val 12500"/>
              </a:avLst>
            </a:prstGeom>
            <a:solidFill>
              <a:srgbClr val="0033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 u="sng">
                  <a:solidFill>
                    <a:srgbClr val="ffcc00"/>
                  </a:solidFill>
                  <a:uFillTx/>
                  <a:latin typeface="Arial"/>
                  <a:hlinkClick r:id="rId3"/>
                </a:rPr>
                <a:t>www.lostart.de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ffffff"/>
                  </a:solidFill>
                  <a:latin typeface="Arial"/>
                </a:rPr>
                <a:t>Stillleb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2" name=""/>
            <p:cNvCxnSpPr>
              <a:stCxn id="350" idx="0"/>
              <a:endCxn id="341" idx="4"/>
            </p:cNvCxnSpPr>
            <p:nvPr/>
          </p:nvCxnSpPr>
          <p:spPr>
            <a:xfrm flipH="1" flipV="1">
              <a:off x="1315800" y="2217240"/>
              <a:ext cx="87840" cy="1788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oval" w="med"/>
            </a:ln>
          </p:spPr>
        </p:cxnSp>
        <p:cxnSp>
          <p:nvCxnSpPr>
            <p:cNvPr id="353" name=""/>
            <p:cNvCxnSpPr>
              <a:stCxn id="349" idx="0"/>
              <a:endCxn id="332" idx="2"/>
            </p:cNvCxnSpPr>
            <p:nvPr/>
          </p:nvCxnSpPr>
          <p:spPr>
            <a:xfrm flipH="1" flipV="1">
              <a:off x="4339800" y="3679560"/>
              <a:ext cx="161280" cy="326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oval" w="med"/>
            </a:ln>
          </p:spPr>
        </p:cxnSp>
        <p:cxnSp>
          <p:nvCxnSpPr>
            <p:cNvPr id="354" name=""/>
            <p:cNvCxnSpPr>
              <a:stCxn id="351" idx="0"/>
              <a:endCxn id="338" idx="2"/>
            </p:cNvCxnSpPr>
            <p:nvPr/>
          </p:nvCxnSpPr>
          <p:spPr>
            <a:xfrm flipV="1">
              <a:off x="7093080" y="3064680"/>
              <a:ext cx="513360" cy="942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oval" w="med"/>
            </a:ln>
          </p:spPr>
        </p:cxnSp>
      </p:grpSp>
      <p:grpSp>
        <p:nvGrpSpPr>
          <p:cNvPr id="355" name=""/>
          <p:cNvGrpSpPr/>
          <p:nvPr/>
        </p:nvGrpSpPr>
        <p:grpSpPr>
          <a:xfrm>
            <a:off x="1332000" y="5084640"/>
            <a:ext cx="6049440" cy="1441440"/>
            <a:chOff x="1332000" y="5084640"/>
            <a:chExt cx="6049440" cy="1441440"/>
          </a:xfrm>
        </p:grpSpPr>
        <p:sp>
          <p:nvSpPr>
            <p:cNvPr id="356" name=""/>
            <p:cNvSpPr/>
            <p:nvPr/>
          </p:nvSpPr>
          <p:spPr>
            <a:xfrm>
              <a:off x="3780000" y="5589720"/>
              <a:ext cx="1366560" cy="93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514"/>
                  </a:solidFill>
                  <a:latin typeface="Arial"/>
                </a:rPr>
                <a:t>XSLT-</a:t>
              </a:r>
              <a:br>
                <a:rPr sz="1800"/>
              </a:br>
              <a:r>
                <a:rPr b="0" lang="de-DE" sz="1800" spc="-1" strike="noStrike">
                  <a:solidFill>
                    <a:srgbClr val="000514"/>
                  </a:solidFill>
                  <a:latin typeface="Arial"/>
                </a:rPr>
                <a:t>Styleshe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332000" y="5084640"/>
              <a:ext cx="1297080" cy="71928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360 h 719280"/>
                <a:gd name="textAreaBottom" fmla="*/ 72000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6084000" y="5084640"/>
              <a:ext cx="1297080" cy="719280"/>
            </a:xfrm>
            <a:custGeom>
              <a:avLst/>
              <a:gdLst>
                <a:gd name="textAreaLeft" fmla="*/ -360 w 1297080"/>
                <a:gd name="textAreaRight" fmla="*/ 1297080 w 1297080"/>
                <a:gd name="textAreaTop" fmla="*/ 360 h 719280"/>
                <a:gd name="textAreaBottom" fmla="*/ 72000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40360" y="5157720"/>
              <a:ext cx="64764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8638-659D-457D-909E-B11132AAE58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Sample Data from a Sou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results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object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&lt;title&gt;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y with the chil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title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&lt;person&gt;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ossaert, J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person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&lt;type&gt;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ain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type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&lt;material&gt;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ichenhol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material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&lt;url&gt;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ttp://www.lostart.de/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recherche/einzelobjekt.php3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lang=english&amp;einzel_id=704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url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&lt;image_url&gt;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ttp://www.lostart.de/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recherche/bild.php3?id=783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image_url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&lt;/object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…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results&g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A712-C861-47C7-AC11-712C910163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Sample Map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yacob:ConceptMapping rdf:about="</a:t>
            </a:r>
            <a:r>
              <a:rPr b="0" lang="de-DE" sz="2000" spc="-1" strike="noStrike">
                <a:solidFill>
                  <a:srgbClr val="e5e5ff"/>
                </a:solidFill>
                <a:latin typeface="Tahoma"/>
              </a:rPr>
              <a:t>Lostart_Painting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"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&lt;yacob:sourceName&gt;</a:t>
            </a: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lostart.de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/yacob:sourceName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&lt;yacob:localElement&gt;</a:t>
            </a: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/object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/yacob:localElement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&lt;yacob:constraint&gt;</a:t>
            </a: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type='Painting'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/yacob:constraint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/yacob:ConceptMapping&gt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rdf:Description rdf:about="</a:t>
            </a:r>
            <a:r>
              <a:rPr b="0" lang="de-DE" sz="2000" spc="-1" strike="noStrike">
                <a:solidFill>
                  <a:srgbClr val="a886e0"/>
                </a:solidFill>
                <a:latin typeface="Tahoma"/>
              </a:rPr>
              <a:t>painting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"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&lt;yacob:providedBy rdf:about="</a:t>
            </a:r>
            <a:r>
              <a:rPr b="0" lang="de-DE" sz="2000" spc="-1" strike="noStrike">
                <a:solidFill>
                  <a:srgbClr val="e5e5ff"/>
                </a:solidFill>
                <a:latin typeface="Tahoma"/>
              </a:rPr>
              <a:t>Lostart_Painting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"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/rdf:Description&gt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yacob:PropertyMapping rdf:about="Lostart_name"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&lt;yacob:sourceName&gt;</a:t>
            </a: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lostart.de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/yacob:sourceName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&lt;yacob:pathToElement&gt;</a:t>
            </a:r>
            <a:r>
              <a:rPr b="0" lang="de-DE" sz="2000" spc="-1" strike="noStrike">
                <a:solidFill>
                  <a:srgbClr val="ffcc00"/>
                </a:solidFill>
                <a:latin typeface="Tahoma"/>
              </a:rPr>
              <a:t>/object/titl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    &lt;/yacob:pathToElement&gt;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&lt;/yacob:PropertyMapping&gt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A433-25CD-4EAE-9CA5-25BA42D036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Automatic Schema Matc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asic problem in data/schema integration: </a:t>
            </a:r>
            <a:br>
              <a:rPr sz="3200"/>
            </a:br>
            <a:r>
              <a:rPr b="0" i="1" lang="de-DE" sz="3200" spc="-1" strike="noStrike">
                <a:solidFill>
                  <a:srgbClr val="ffffff"/>
                </a:solidFill>
                <a:latin typeface="Garamond"/>
              </a:rPr>
              <a:t>Match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op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Input: two schem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Output: mapping between elements of the two schemas that semantically correspond to each 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anually: error-prone, time-consuming,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Research on tools (Clio, …) and automatic approaches (CUPID, LSD, TranScm, 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70D8-B4F4-4500-A51A-4B1B3188C2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oncept-based Integra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The Yacob Medi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oncept Mapping in Yac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utomatic Schema Mat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Rule-based Support for Schema Mat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onclusion &amp; Outl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AAD9-7B4A-4E75-B791-6BCC785D77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Schema Matching Approa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Classification [Rahm, Bernstein 2001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Instance vs. Schema level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: consider data (contents) or only schema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Element vs. Structure matching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: consider individual elements or combinations of el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Language vs. Constraint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: linguistic-based (e.g. names) or contraint-based (keys and relationship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Matching cardinality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: relate one element to one, one to mor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Auxiliary information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: use dictionaries, user inpu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49DB-E672-48C5-B351-1B61D09C94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Rule-based Map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Goal: use schema matching approach but allow to formulate logic-based matching rules and rules for mapping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xtensible matc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eal with semantically rich schema (ontolog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(semi-automatic) derivation/refinement of matching rules based on already mapped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.g., identifying synonyms, constraints etc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3896-37FA-4352-B1D2-B79E88F2F0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Matching Ru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Rules for property matching (atomic matcher)</a:t>
            </a:r>
            <a:br>
              <a:rPr sz="28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atch(p1, p2, conf) :-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efix_match(p1.name, p2.name, conf)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atch(p1, p2, conf) :-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edistance(p1.name, p2.name, conf)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atch(p1, p2, conf) :-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equal(p1.name, p2.name), conf=1.0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Rules for concept matching (combine property matchers)</a:t>
            </a:r>
            <a:br>
              <a:rPr sz="28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atch(c1, c2, conf) :-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atch_prop_sets(c1.props, c2.props, conf)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3D3F-155F-4804-B421-4B87D41D3A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Rule-based Matc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Import ontology and sample XML data from the 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Identify „classes“ in sample data, i.e. elements representing objects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derive class </a:t>
            </a: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efine/load matching r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For each class </a:t>
            </a: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c e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valuate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ind-best-match(</a:t>
            </a: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c, conf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77680" indent="-438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Traverse graph of concepts (ontolog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77680" indent="-438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Identify most specific concept with best match by checking matching ru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erive mapping r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77680" indent="-438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RDF description and XSLT ru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B475-25DD-4403-8295-6E7DF6E30E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Examp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object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&lt;title&gt;</a:t>
            </a:r>
            <a:r>
              <a:rPr b="0" lang="de-DE" sz="2400" spc="-1" strike="noStrike">
                <a:solidFill>
                  <a:srgbClr val="ffcc00"/>
                </a:solidFill>
                <a:latin typeface="Tahoma"/>
              </a:rPr>
              <a:t>Baroque garden sculpture</a:t>
            </a:r>
            <a:br>
              <a:rPr sz="2400"/>
            </a:br>
            <a:r>
              <a:rPr b="0" lang="de-DE" sz="2400" spc="-1" strike="noStrike">
                <a:solidFill>
                  <a:srgbClr val="ffcc00"/>
                </a:solidFill>
                <a:latin typeface="Tahoma"/>
              </a:rPr>
              <a:t>        in Potsdam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title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object&g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object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&lt;title&gt;</a:t>
            </a:r>
            <a:r>
              <a:rPr b="0" lang="de-DE" sz="2400" spc="-1" strike="noStrike">
                <a:solidFill>
                  <a:srgbClr val="ffcc00"/>
                </a:solidFill>
                <a:latin typeface="Tahoma"/>
              </a:rPr>
              <a:t>Park in Arles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title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&lt;artist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&lt;fname&gt;</a:t>
            </a:r>
            <a:r>
              <a:rPr b="0" lang="de-DE" sz="2400" spc="-1" strike="noStrike">
                <a:solidFill>
                  <a:srgbClr val="ffcc00"/>
                </a:solidFill>
                <a:latin typeface="Tahoma"/>
              </a:rPr>
              <a:t>Vincent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fname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&lt;lname&gt;</a:t>
            </a:r>
            <a:r>
              <a:rPr b="0" lang="de-DE" sz="2400" spc="-1" strike="noStrike">
                <a:solidFill>
                  <a:srgbClr val="ffcc00"/>
                </a:solidFill>
                <a:latin typeface="Tahoma"/>
              </a:rPr>
              <a:t>van Gogh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lname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&lt;/artist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&lt;type&gt;</a:t>
            </a:r>
            <a:r>
              <a:rPr b="0" lang="de-DE" sz="2400" spc="-1" strike="noStrike">
                <a:solidFill>
                  <a:srgbClr val="ffcc00"/>
                </a:solidFill>
                <a:latin typeface="Tahoma"/>
              </a:rPr>
              <a:t>Gemälde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type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&lt;/object&g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280" y="1916280"/>
            <a:ext cx="3197160" cy="2835000"/>
            <a:chOff x="395280" y="1916280"/>
            <a:chExt cx="3197160" cy="2835000"/>
          </a:xfrm>
        </p:grpSpPr>
        <p:sp>
          <p:nvSpPr>
            <p:cNvPr id="377" name=""/>
            <p:cNvSpPr/>
            <p:nvPr/>
          </p:nvSpPr>
          <p:spPr>
            <a:xfrm>
              <a:off x="1116000" y="4365720"/>
              <a:ext cx="977760" cy="385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pai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16000" y="3357720"/>
              <a:ext cx="977760" cy="385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fine ar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0000" y="2563920"/>
              <a:ext cx="1433520" cy="385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cultural as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0" name=""/>
            <p:cNvCxnSpPr>
              <a:stCxn id="378" idx="0"/>
              <a:endCxn id="379" idx="2"/>
            </p:cNvCxnSpPr>
            <p:nvPr/>
          </p:nvCxnSpPr>
          <p:spPr>
            <a:xfrm flipV="1">
              <a:off x="1604880" y="2958840"/>
              <a:ext cx="13680" cy="3895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81" name=""/>
            <p:cNvCxnSpPr>
              <a:stCxn id="377" idx="0"/>
              <a:endCxn id="378" idx="2"/>
            </p:cNvCxnSpPr>
            <p:nvPr/>
          </p:nvCxnSpPr>
          <p:spPr>
            <a:xfrm flipV="1">
              <a:off x="1604520" y="3752280"/>
              <a:ext cx="1080" cy="60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82" name=""/>
            <p:cNvSpPr/>
            <p:nvPr/>
          </p:nvSpPr>
          <p:spPr>
            <a:xfrm>
              <a:off x="2484360" y="3429000"/>
              <a:ext cx="1108080" cy="385920"/>
            </a:xfrm>
            <a:prstGeom prst="ellipse">
              <a:avLst/>
            </a:prstGeom>
            <a:solidFill>
              <a:srgbClr val="0033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arti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8000" y="1916280"/>
              <a:ext cx="1108080" cy="385560"/>
            </a:xfrm>
            <a:prstGeom prst="ellipse">
              <a:avLst/>
            </a:prstGeom>
            <a:solidFill>
              <a:srgbClr val="0033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ti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4" name=""/>
            <p:cNvCxnSpPr>
              <a:stCxn id="379" idx="0"/>
              <a:endCxn id="383" idx="4"/>
            </p:cNvCxnSpPr>
            <p:nvPr/>
          </p:nvCxnSpPr>
          <p:spPr>
            <a:xfrm flipV="1">
              <a:off x="1617480" y="2301120"/>
              <a:ext cx="844920" cy="253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85" name=""/>
            <p:cNvCxnSpPr>
              <a:stCxn id="378" idx="3"/>
              <a:endCxn id="382" idx="2"/>
            </p:cNvCxnSpPr>
            <p:nvPr/>
          </p:nvCxnSpPr>
          <p:spPr>
            <a:xfrm>
              <a:off x="2103480" y="3551400"/>
              <a:ext cx="381600" cy="720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86" name=""/>
            <p:cNvSpPr/>
            <p:nvPr/>
          </p:nvSpPr>
          <p:spPr>
            <a:xfrm>
              <a:off x="395280" y="1987560"/>
              <a:ext cx="1108080" cy="385920"/>
            </a:xfrm>
            <a:prstGeom prst="ellipse">
              <a:avLst/>
            </a:prstGeom>
            <a:solidFill>
              <a:srgbClr val="0033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n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7" name=""/>
            <p:cNvCxnSpPr>
              <a:stCxn id="379" idx="0"/>
              <a:endCxn id="386" idx="4"/>
            </p:cNvCxnSpPr>
            <p:nvPr/>
          </p:nvCxnSpPr>
          <p:spPr>
            <a:xfrm flipH="1" flipV="1">
              <a:off x="948600" y="2373120"/>
              <a:ext cx="669240" cy="18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388" name=""/>
          <p:cNvGrpSpPr/>
          <p:nvPr/>
        </p:nvGrpSpPr>
        <p:grpSpPr>
          <a:xfrm>
            <a:off x="2050920" y="4724280"/>
            <a:ext cx="5761080" cy="792360"/>
            <a:chOff x="2050920" y="4724280"/>
            <a:chExt cx="5761080" cy="792360"/>
          </a:xfrm>
        </p:grpSpPr>
        <p:sp>
          <p:nvSpPr>
            <p:cNvPr id="389" name=""/>
            <p:cNvSpPr/>
            <p:nvPr/>
          </p:nvSpPr>
          <p:spPr>
            <a:xfrm>
              <a:off x="4140360" y="4869000"/>
              <a:ext cx="3671640" cy="647640"/>
            </a:xfrm>
            <a:prstGeom prst="ellipse">
              <a:avLst/>
            </a:prstGeom>
            <a:noFill/>
            <a:ln w="28440">
              <a:solidFill>
                <a:srgbClr val="be44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050920" y="4724280"/>
              <a:ext cx="2089440" cy="433440"/>
            </a:xfrm>
            <a:prstGeom prst="line">
              <a:avLst/>
            </a:prstGeom>
            <a:ln w="28440">
              <a:solidFill>
                <a:srgbClr val="be44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347640" y="3573360"/>
            <a:ext cx="2737080" cy="1584360"/>
            <a:chOff x="3347640" y="3573360"/>
            <a:chExt cx="2737080" cy="1584360"/>
          </a:xfrm>
        </p:grpSpPr>
        <p:sp>
          <p:nvSpPr>
            <p:cNvPr id="392" name=""/>
            <p:cNvSpPr/>
            <p:nvPr/>
          </p:nvSpPr>
          <p:spPr>
            <a:xfrm>
              <a:off x="3635280" y="3573360"/>
              <a:ext cx="2449440" cy="1584360"/>
            </a:xfrm>
            <a:prstGeom prst="ellipse">
              <a:avLst/>
            </a:prstGeom>
            <a:noFill/>
            <a:ln w="28440">
              <a:solidFill>
                <a:srgbClr val="be44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347640" y="3715920"/>
              <a:ext cx="360360" cy="289080"/>
            </a:xfrm>
            <a:prstGeom prst="line">
              <a:avLst/>
            </a:prstGeom>
            <a:ln w="28440">
              <a:solidFill>
                <a:srgbClr val="be44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340000" y="1557360"/>
            <a:ext cx="3095640" cy="1150920"/>
            <a:chOff x="2340000" y="1557360"/>
            <a:chExt cx="3095640" cy="1150920"/>
          </a:xfrm>
        </p:grpSpPr>
        <p:sp>
          <p:nvSpPr>
            <p:cNvPr id="395" name=""/>
            <p:cNvSpPr/>
            <p:nvPr/>
          </p:nvSpPr>
          <p:spPr>
            <a:xfrm>
              <a:off x="3995640" y="1557360"/>
              <a:ext cx="1440000" cy="503280"/>
            </a:xfrm>
            <a:prstGeom prst="ellipse">
              <a:avLst/>
            </a:prstGeom>
            <a:noFill/>
            <a:ln w="28440">
              <a:solidFill>
                <a:srgbClr val="be44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340000" y="1916280"/>
              <a:ext cx="1727280" cy="792000"/>
            </a:xfrm>
            <a:prstGeom prst="line">
              <a:avLst/>
            </a:prstGeom>
            <a:ln w="9360">
              <a:solidFill>
                <a:srgbClr val="be44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842920" y="2133360"/>
            <a:ext cx="5689800" cy="648000"/>
            <a:chOff x="2842920" y="2133360"/>
            <a:chExt cx="5689800" cy="648000"/>
          </a:xfrm>
        </p:grpSpPr>
        <p:sp>
          <p:nvSpPr>
            <p:cNvPr id="398" name=""/>
            <p:cNvSpPr/>
            <p:nvPr/>
          </p:nvSpPr>
          <p:spPr>
            <a:xfrm>
              <a:off x="7451640" y="2349360"/>
              <a:ext cx="1081080" cy="432000"/>
            </a:xfrm>
            <a:prstGeom prst="ellipse">
              <a:avLst/>
            </a:prstGeom>
            <a:noFill/>
            <a:ln w="28440">
              <a:solidFill>
                <a:srgbClr val="be44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2842920" y="2133360"/>
              <a:ext cx="4608360" cy="431640"/>
            </a:xfrm>
            <a:prstGeom prst="line">
              <a:avLst/>
            </a:prstGeom>
            <a:ln w="28440">
              <a:solidFill>
                <a:srgbClr val="be44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2997-9ECB-4F4C-98C9-E5F96B77F2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Conclusion &amp; Out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So far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Approach for flexible integration of sources covering data from related but otherwise possibly very different domain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Tight connection between semantic description of global domain and data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Manual specification of mapp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Next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Tool support for schema matching and mapping deriv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Try to combine existing schema matching approaches with rule-based appro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Open issues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appropriate formalism for matching and mapping ru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Dealing with uncertain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Rule mining“, rule refin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30BE-A9FA-40E1-881C-F637FE7F95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Motiv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ntegration of heterogeneous Web data 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large number of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isjunct, related or overlapping dom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pplication domain: information about cultural as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.g, </a:t>
            </a:r>
            <a:r>
              <a:rPr b="0" lang="de-DE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lostart.de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de-DE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herkomstgezocht.nl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Mediator system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high grade of flexibility and adapta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efficient query formulation and proc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5D19-3E0B-4D25-87E6-39F3074384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Motiv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cenarios with loosely coupled domains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de-DE" sz="2800" spc="-1" strike="noStrike">
                <a:solidFill>
                  <a:srgbClr val="ffffff"/>
                </a:solidFill>
                <a:latin typeface="Garamond"/>
              </a:rPr>
              <a:t>domain knowledge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for query formulation, source mapping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Focus on semantically correspondences instead of structural correspond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46280" y="3637080"/>
            <a:ext cx="4659120" cy="925200"/>
            <a:chOff x="2546280" y="3637080"/>
            <a:chExt cx="4659120" cy="925200"/>
          </a:xfrm>
        </p:grpSpPr>
        <p:grpSp>
          <p:nvGrpSpPr>
            <p:cNvPr id="111" name=""/>
            <p:cNvGrpSpPr/>
            <p:nvPr/>
          </p:nvGrpSpPr>
          <p:grpSpPr>
            <a:xfrm>
              <a:off x="2546280" y="3643560"/>
              <a:ext cx="2562480" cy="918720"/>
              <a:chOff x="2546280" y="3643560"/>
              <a:chExt cx="2562480" cy="918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855520" y="4474080"/>
                <a:ext cx="33156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etching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75280" y="4474080"/>
                <a:ext cx="37548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xylography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76200" y="4262040"/>
                <a:ext cx="33156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graphics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29720" y="4262040"/>
                <a:ext cx="33156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drawing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3600" y="4262040"/>
                <a:ext cx="33120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painting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21760" y="4120200"/>
                <a:ext cx="331200" cy="88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table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68240" y="4120200"/>
                <a:ext cx="331560" cy="88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chair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363480" y="3855240"/>
                <a:ext cx="33120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fine arts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44640" y="3855240"/>
                <a:ext cx="33120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furniture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09960" y="3643560"/>
                <a:ext cx="486000" cy="882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cultural asset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22" name=""/>
              <p:cNvCxnSpPr>
                <a:stCxn id="120" idx="0"/>
                <a:endCxn id="121" idx="2"/>
              </p:cNvCxnSpPr>
              <p:nvPr/>
            </p:nvCxnSpPr>
            <p:spPr>
              <a:xfrm flipV="1">
                <a:off x="2910600" y="3733200"/>
                <a:ext cx="343440" cy="11988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23" name=""/>
              <p:cNvCxnSpPr>
                <a:stCxn id="119" idx="0"/>
                <a:endCxn id="121" idx="2"/>
              </p:cNvCxnSpPr>
              <p:nvPr/>
            </p:nvCxnSpPr>
            <p:spPr>
              <a:xfrm flipH="1" flipV="1">
                <a:off x="3252960" y="3733200"/>
                <a:ext cx="276480" cy="11988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24" name=""/>
              <p:cNvCxnSpPr>
                <a:stCxn id="118" idx="0"/>
                <a:endCxn id="120" idx="2"/>
              </p:cNvCxnSpPr>
              <p:nvPr/>
            </p:nvCxnSpPr>
            <p:spPr>
              <a:xfrm flipV="1">
                <a:off x="2733840" y="3945600"/>
                <a:ext cx="177120" cy="17280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25" name=""/>
              <p:cNvCxnSpPr>
                <a:stCxn id="117" idx="0"/>
                <a:endCxn id="120" idx="2"/>
              </p:cNvCxnSpPr>
              <p:nvPr/>
            </p:nvCxnSpPr>
            <p:spPr>
              <a:xfrm flipH="1" flipV="1">
                <a:off x="2909880" y="3945600"/>
                <a:ext cx="177480" cy="17280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26" name=""/>
              <p:cNvCxnSpPr>
                <a:stCxn id="114" idx="0"/>
                <a:endCxn id="119" idx="2"/>
              </p:cNvCxnSpPr>
              <p:nvPr/>
            </p:nvCxnSpPr>
            <p:spPr>
              <a:xfrm flipV="1">
                <a:off x="3241800" y="3945960"/>
                <a:ext cx="288000" cy="31428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27" name=""/>
              <p:cNvCxnSpPr>
                <a:stCxn id="115" idx="0"/>
                <a:endCxn id="119" idx="2"/>
              </p:cNvCxnSpPr>
              <p:nvPr/>
            </p:nvCxnSpPr>
            <p:spPr>
              <a:xfrm flipH="1" flipV="1">
                <a:off x="3529080" y="3945960"/>
                <a:ext cx="66960" cy="31428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28" name=""/>
              <p:cNvCxnSpPr>
                <a:stCxn id="116" idx="0"/>
                <a:endCxn id="119" idx="2"/>
              </p:cNvCxnSpPr>
              <p:nvPr/>
            </p:nvCxnSpPr>
            <p:spPr>
              <a:xfrm flipH="1" flipV="1">
                <a:off x="3529080" y="3945960"/>
                <a:ext cx="420480" cy="31428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29" name=""/>
              <p:cNvCxnSpPr>
                <a:stCxn id="112" idx="0"/>
                <a:endCxn id="114" idx="2"/>
              </p:cNvCxnSpPr>
              <p:nvPr/>
            </p:nvCxnSpPr>
            <p:spPr>
              <a:xfrm flipV="1">
                <a:off x="3021120" y="4351680"/>
                <a:ext cx="221040" cy="11988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30" name=""/>
              <p:cNvCxnSpPr>
                <a:stCxn id="113" idx="0"/>
                <a:endCxn id="114" idx="2"/>
              </p:cNvCxnSpPr>
              <p:nvPr/>
            </p:nvCxnSpPr>
            <p:spPr>
              <a:xfrm flipH="1" flipV="1">
                <a:off x="3241440" y="4351680"/>
                <a:ext cx="221760" cy="11988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sp>
            <p:nvSpPr>
              <p:cNvPr id="131" name=""/>
              <p:cNvSpPr/>
              <p:nvPr/>
            </p:nvSpPr>
            <p:spPr>
              <a:xfrm>
                <a:off x="4446360" y="3696480"/>
                <a:ext cx="26460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motif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3640" y="3890520"/>
                <a:ext cx="26532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still life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58160" y="3890520"/>
                <a:ext cx="33084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landscape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15720" y="3890520"/>
                <a:ext cx="39744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coat of arms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82680" y="4084920"/>
                <a:ext cx="35280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mountains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58160" y="4084920"/>
                <a:ext cx="33084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river/sea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34920" y="4244400"/>
                <a:ext cx="26532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flowers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44160" y="4244400"/>
                <a:ext cx="264600" cy="88200"/>
              </a:xfrm>
              <a:prstGeom prst="rect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fruits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39" name=""/>
              <p:cNvCxnSpPr>
                <a:stCxn id="134" idx="0"/>
                <a:endCxn id="131" idx="2"/>
              </p:cNvCxnSpPr>
              <p:nvPr/>
            </p:nvCxnSpPr>
            <p:spPr>
              <a:xfrm flipV="1">
                <a:off x="4115160" y="3784320"/>
                <a:ext cx="464400" cy="10656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40" name=""/>
              <p:cNvCxnSpPr>
                <a:stCxn id="133" idx="0"/>
                <a:endCxn id="131" idx="2"/>
              </p:cNvCxnSpPr>
              <p:nvPr/>
            </p:nvCxnSpPr>
            <p:spPr>
              <a:xfrm flipV="1">
                <a:off x="4523040" y="3784320"/>
                <a:ext cx="55800" cy="10656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41" name=""/>
              <p:cNvCxnSpPr>
                <a:stCxn id="132" idx="0"/>
                <a:endCxn id="131" idx="2"/>
              </p:cNvCxnSpPr>
              <p:nvPr/>
            </p:nvCxnSpPr>
            <p:spPr>
              <a:xfrm flipH="1" flipV="1">
                <a:off x="4578480" y="3784320"/>
                <a:ext cx="288000" cy="10656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42" name=""/>
              <p:cNvCxnSpPr>
                <a:stCxn id="135" idx="0"/>
                <a:endCxn id="133" idx="2"/>
              </p:cNvCxnSpPr>
              <p:nvPr/>
            </p:nvCxnSpPr>
            <p:spPr>
              <a:xfrm flipV="1">
                <a:off x="4159080" y="3978360"/>
                <a:ext cx="365040" cy="10656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43" name=""/>
              <p:cNvCxnSpPr>
                <a:stCxn id="136" idx="0"/>
                <a:endCxn id="133" idx="2"/>
              </p:cNvCxnSpPr>
              <p:nvPr/>
            </p:nvCxnSpPr>
            <p:spPr>
              <a:xfrm flipV="1">
                <a:off x="4523040" y="3978360"/>
                <a:ext cx="1080" cy="10656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44" name=""/>
              <p:cNvCxnSpPr>
                <a:stCxn id="137" idx="0"/>
                <a:endCxn id="132" idx="2"/>
              </p:cNvCxnSpPr>
              <p:nvPr/>
            </p:nvCxnSpPr>
            <p:spPr>
              <a:xfrm flipV="1">
                <a:off x="4666680" y="3978000"/>
                <a:ext cx="199800" cy="26604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cxnSp>
            <p:nvCxnSpPr>
              <p:cNvPr id="145" name=""/>
              <p:cNvCxnSpPr>
                <a:stCxn id="138" idx="0"/>
                <a:endCxn id="132" idx="2"/>
              </p:cNvCxnSpPr>
              <p:nvPr/>
            </p:nvCxnSpPr>
            <p:spPr>
              <a:xfrm flipH="1" flipV="1">
                <a:off x="4866120" y="3978000"/>
                <a:ext cx="110880" cy="26604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  <a:tailEnd len="med" type="arrow" w="med"/>
              </a:ln>
            </p:spPr>
          </p:cxnSp>
          <p:sp>
            <p:nvSpPr>
              <p:cNvPr id="146" name=""/>
              <p:cNvSpPr/>
              <p:nvPr/>
            </p:nvSpPr>
            <p:spPr>
              <a:xfrm>
                <a:off x="3695040" y="3643560"/>
                <a:ext cx="375480" cy="88200"/>
              </a:xfrm>
              <a:prstGeom prst="ellipse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artist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46280" y="3696480"/>
                <a:ext cx="375480" cy="88200"/>
              </a:xfrm>
              <a:prstGeom prst="ellipse">
                <a:avLst/>
              </a:prstGeom>
              <a:solidFill>
                <a:srgbClr val="003399">
                  <a:alpha val="50000"/>
                </a:srgbClr>
              </a:solidFill>
              <a:ln w="324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name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48" name=""/>
              <p:cNvCxnSpPr>
                <a:stCxn id="121" idx="1"/>
                <a:endCxn id="147" idx="6"/>
              </p:cNvCxnSpPr>
              <p:nvPr/>
            </p:nvCxnSpPr>
            <p:spPr>
              <a:xfrm flipH="1">
                <a:off x="2921400" y="3687120"/>
                <a:ext cx="85680" cy="5364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</a:ln>
            </p:spPr>
          </p:cxnSp>
          <p:cxnSp>
            <p:nvCxnSpPr>
              <p:cNvPr id="149" name=""/>
              <p:cNvCxnSpPr>
                <a:stCxn id="119" idx="0"/>
                <a:endCxn id="146" idx="4"/>
              </p:cNvCxnSpPr>
              <p:nvPr/>
            </p:nvCxnSpPr>
            <p:spPr>
              <a:xfrm flipV="1">
                <a:off x="3529440" y="3731040"/>
                <a:ext cx="353880" cy="12204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</a:ln>
            </p:spPr>
          </p:cxnSp>
          <p:cxnSp>
            <p:nvCxnSpPr>
              <p:cNvPr id="150" name=""/>
              <p:cNvCxnSpPr>
                <a:stCxn id="119" idx="3"/>
                <a:endCxn id="131" idx="1"/>
              </p:cNvCxnSpPr>
              <p:nvPr/>
            </p:nvCxnSpPr>
            <p:spPr>
              <a:xfrm flipV="1">
                <a:off x="3697560" y="3740040"/>
                <a:ext cx="749160" cy="159840"/>
              </a:xfrm>
              <a:prstGeom prst="straightConnector1">
                <a:avLst/>
              </a:prstGeom>
              <a:ln w="3240">
                <a:solidFill>
                  <a:srgbClr val="000514"/>
                </a:solidFill>
                <a:miter/>
              </a:ln>
            </p:spPr>
          </p:cxnSp>
          <p:sp>
            <p:nvSpPr>
              <p:cNvPr id="151" name=""/>
              <p:cNvSpPr/>
              <p:nvPr/>
            </p:nvSpPr>
            <p:spPr>
              <a:xfrm rot="20686200">
                <a:off x="3825720" y="3755520"/>
                <a:ext cx="4323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500" spc="-1" strike="noStrike">
                    <a:solidFill>
                      <a:srgbClr val="ccecff"/>
                    </a:solidFill>
                    <a:latin typeface="Tahoma"/>
                  </a:rPr>
                  <a:t>portrays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63320" y="4467600"/>
              <a:ext cx="330840" cy="8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etching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83080" y="4467600"/>
              <a:ext cx="374760" cy="8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xylography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4000" y="4255200"/>
              <a:ext cx="330840" cy="88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graphic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37520" y="4255200"/>
              <a:ext cx="331200" cy="88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drawing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91040" y="4255200"/>
              <a:ext cx="331200" cy="88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painting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4560" y="3965040"/>
              <a:ext cx="330840" cy="88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table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21040" y="3965040"/>
              <a:ext cx="330840" cy="88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chair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70920" y="3848400"/>
              <a:ext cx="331200" cy="88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fine art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3920" y="3689280"/>
              <a:ext cx="332280" cy="88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furniture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7400" y="3637080"/>
              <a:ext cx="486360" cy="878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cultural asse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59" idx="0"/>
              <a:endCxn id="161" idx="2"/>
            </p:cNvCxnSpPr>
            <p:nvPr/>
          </p:nvCxnSpPr>
          <p:spPr>
            <a:xfrm flipH="1" flipV="1">
              <a:off x="5360400" y="3727080"/>
              <a:ext cx="277200" cy="11916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cxnSp>
          <p:nvCxnSpPr>
            <p:cNvPr id="163" name=""/>
            <p:cNvCxnSpPr>
              <a:stCxn id="158" idx="0"/>
              <a:endCxn id="160" idx="2"/>
            </p:cNvCxnSpPr>
            <p:nvPr/>
          </p:nvCxnSpPr>
          <p:spPr>
            <a:xfrm flipV="1">
              <a:off x="6686640" y="3783960"/>
              <a:ext cx="183240" cy="17568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cxnSp>
          <p:nvCxnSpPr>
            <p:cNvPr id="164" name=""/>
            <p:cNvCxnSpPr>
              <a:stCxn id="157" idx="0"/>
              <a:endCxn id="160" idx="2"/>
            </p:cNvCxnSpPr>
            <p:nvPr/>
          </p:nvCxnSpPr>
          <p:spPr>
            <a:xfrm flipH="1" flipV="1">
              <a:off x="6869520" y="3783960"/>
              <a:ext cx="171360" cy="17568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cxnSp>
          <p:nvCxnSpPr>
            <p:cNvPr id="165" name=""/>
            <p:cNvCxnSpPr>
              <a:stCxn id="154" idx="0"/>
              <a:endCxn id="159" idx="2"/>
            </p:cNvCxnSpPr>
            <p:nvPr/>
          </p:nvCxnSpPr>
          <p:spPr>
            <a:xfrm flipV="1">
              <a:off x="5348520" y="3939480"/>
              <a:ext cx="289080" cy="31428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cxnSp>
          <p:nvCxnSpPr>
            <p:cNvPr id="166" name=""/>
            <p:cNvCxnSpPr>
              <a:stCxn id="155" idx="0"/>
              <a:endCxn id="159" idx="2"/>
            </p:cNvCxnSpPr>
            <p:nvPr/>
          </p:nvCxnSpPr>
          <p:spPr>
            <a:xfrm flipH="1" flipV="1">
              <a:off x="5636880" y="3939480"/>
              <a:ext cx="66960" cy="31428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cxnSp>
          <p:nvCxnSpPr>
            <p:cNvPr id="167" name=""/>
            <p:cNvCxnSpPr>
              <a:stCxn id="156" idx="0"/>
              <a:endCxn id="159" idx="2"/>
            </p:cNvCxnSpPr>
            <p:nvPr/>
          </p:nvCxnSpPr>
          <p:spPr>
            <a:xfrm flipH="1" flipV="1">
              <a:off x="5636880" y="3939480"/>
              <a:ext cx="420480" cy="31428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cxnSp>
          <p:nvCxnSpPr>
            <p:cNvPr id="168" name=""/>
            <p:cNvCxnSpPr>
              <a:stCxn id="152" idx="0"/>
              <a:endCxn id="154" idx="2"/>
            </p:cNvCxnSpPr>
            <p:nvPr/>
          </p:nvCxnSpPr>
          <p:spPr>
            <a:xfrm flipV="1">
              <a:off x="5128920" y="4345560"/>
              <a:ext cx="219960" cy="11916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cxnSp>
          <p:nvCxnSpPr>
            <p:cNvPr id="169" name=""/>
            <p:cNvCxnSpPr>
              <a:stCxn id="153" idx="0"/>
              <a:endCxn id="154" idx="2"/>
            </p:cNvCxnSpPr>
            <p:nvPr/>
          </p:nvCxnSpPr>
          <p:spPr>
            <a:xfrm flipH="1" flipV="1">
              <a:off x="5348520" y="4345560"/>
              <a:ext cx="222480" cy="11916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  <a:tailEnd len="med" type="arrow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6022800" y="3884040"/>
              <a:ext cx="398160" cy="88920"/>
            </a:xfrm>
            <a:prstGeom prst="rect">
              <a:avLst/>
            </a:prstGeom>
            <a:solidFill>
              <a:srgbClr val="003399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coat of arm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0480" y="4078080"/>
              <a:ext cx="352440" cy="88920"/>
            </a:xfrm>
            <a:prstGeom prst="rect">
              <a:avLst/>
            </a:prstGeom>
            <a:solidFill>
              <a:srgbClr val="003399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mountain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02120" y="3637080"/>
              <a:ext cx="375840" cy="87840"/>
            </a:xfrm>
            <a:prstGeom prst="ellipse">
              <a:avLst/>
            </a:prstGeom>
            <a:solidFill>
              <a:srgbClr val="003399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artis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52240" y="3919320"/>
              <a:ext cx="375840" cy="88920"/>
            </a:xfrm>
            <a:prstGeom prst="ellipse">
              <a:avLst/>
            </a:prstGeom>
            <a:solidFill>
              <a:srgbClr val="003399">
                <a:alpha val="50000"/>
              </a:srgbClr>
            </a:solidFill>
            <a:ln w="32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name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61" idx="1"/>
              <a:endCxn id="173" idx="6"/>
            </p:cNvCxnSpPr>
            <p:nvPr/>
          </p:nvCxnSpPr>
          <p:spPr>
            <a:xfrm>
              <a:off x="5110200" y="3681000"/>
              <a:ext cx="318600" cy="28368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</a:ln>
          </p:spPr>
        </p:cxnSp>
        <p:cxnSp>
          <p:nvCxnSpPr>
            <p:cNvPr id="175" name=""/>
            <p:cNvCxnSpPr>
              <a:stCxn id="159" idx="0"/>
              <a:endCxn id="172" idx="4"/>
            </p:cNvCxnSpPr>
            <p:nvPr/>
          </p:nvCxnSpPr>
          <p:spPr>
            <a:xfrm flipV="1">
              <a:off x="5637240" y="3724560"/>
              <a:ext cx="353880" cy="122400"/>
            </a:xfrm>
            <a:prstGeom prst="straightConnector1">
              <a:avLst/>
            </a:prstGeom>
            <a:ln w="3240">
              <a:solidFill>
                <a:srgbClr val="000514"/>
              </a:solidFill>
              <a:miter/>
            </a:ln>
          </p:spPr>
        </p:cxnSp>
        <p:sp>
          <p:nvSpPr>
            <p:cNvPr id="176" name=""/>
            <p:cNvSpPr/>
            <p:nvPr/>
          </p:nvSpPr>
          <p:spPr>
            <a:xfrm rot="20686200">
              <a:off x="5934240" y="374904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00" spc="-1" strike="noStrike">
                  <a:solidFill>
                    <a:srgbClr val="ccecff"/>
                  </a:solidFill>
                  <a:latin typeface="Tahoma"/>
                </a:rPr>
                <a:t>portrays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425840" y="5614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05440" y="5614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3573360"/>
            <a:ext cx="144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Global Domain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76360" y="3500280"/>
            <a:ext cx="4951440" cy="1149480"/>
          </a:xfrm>
          <a:prstGeom prst="rect">
            <a:avLst/>
          </a:prstGeom>
          <a:solidFill>
            <a:srgbClr val="e5e5ff">
              <a:alpha val="50000"/>
            </a:srgbClr>
          </a:solidFill>
          <a:ln cap="sq"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76360" y="5522760"/>
            <a:ext cx="909720" cy="642960"/>
          </a:xfrm>
          <a:prstGeom prst="rect">
            <a:avLst/>
          </a:prstGeom>
          <a:solidFill>
            <a:srgbClr val="e5e5ff">
              <a:alpha val="50000"/>
            </a:srgbClr>
          </a:solidFill>
          <a:ln cap="sq"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98760" y="5522760"/>
            <a:ext cx="912960" cy="642960"/>
          </a:xfrm>
          <a:prstGeom prst="rect">
            <a:avLst/>
          </a:prstGeom>
          <a:solidFill>
            <a:srgbClr val="e5e5ff">
              <a:alpha val="50000"/>
            </a:srgbClr>
          </a:solidFill>
          <a:ln cap="sq"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5522760"/>
            <a:ext cx="911160" cy="642960"/>
          </a:xfrm>
          <a:prstGeom prst="rect">
            <a:avLst/>
          </a:prstGeom>
          <a:solidFill>
            <a:srgbClr val="e5e5ff">
              <a:alpha val="50000"/>
            </a:srgbClr>
          </a:solidFill>
          <a:ln cap="sq"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5522760"/>
            <a:ext cx="911520" cy="642960"/>
          </a:xfrm>
          <a:prstGeom prst="rect">
            <a:avLst/>
          </a:prstGeom>
          <a:solidFill>
            <a:srgbClr val="e5e5ff">
              <a:alpha val="50000"/>
            </a:srgbClr>
          </a:solidFill>
          <a:ln cap="sq"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5229360"/>
            <a:ext cx="173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Sources with local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32160" y="3776760"/>
            <a:ext cx="4057560" cy="2089080"/>
            <a:chOff x="2432160" y="3776760"/>
            <a:chExt cx="4057560" cy="2089080"/>
          </a:xfrm>
        </p:grpSpPr>
        <p:sp>
          <p:nvSpPr>
            <p:cNvPr id="187" name=""/>
            <p:cNvSpPr/>
            <p:nvPr/>
          </p:nvSpPr>
          <p:spPr>
            <a:xfrm>
              <a:off x="2432160" y="3776760"/>
              <a:ext cx="911160" cy="55080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46280" y="5567400"/>
              <a:ext cx="682560" cy="2761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46560" y="4218120"/>
              <a:ext cx="911160" cy="21744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60680" y="5573880"/>
              <a:ext cx="682560" cy="2761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3640" y="3860640"/>
              <a:ext cx="1295640" cy="55116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8760" y="5589720"/>
              <a:ext cx="682560" cy="2761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2360" y="4292640"/>
              <a:ext cx="911160" cy="2887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07160" y="5589720"/>
              <a:ext cx="682560" cy="2761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771640" y="4142880"/>
            <a:ext cx="3495600" cy="1599120"/>
            <a:chOff x="2771640" y="4142880"/>
            <a:chExt cx="3495600" cy="1599120"/>
          </a:xfrm>
        </p:grpSpPr>
        <p:sp>
          <p:nvSpPr>
            <p:cNvPr id="196" name=""/>
            <p:cNvSpPr/>
            <p:nvPr/>
          </p:nvSpPr>
          <p:spPr>
            <a:xfrm rot="361800">
              <a:off x="5148360" y="4437000"/>
              <a:ext cx="215640" cy="1297080"/>
            </a:xfrm>
            <a:prstGeom prst="upDownArrow">
              <a:avLst>
                <a:gd name="adj1" fmla="val 50000"/>
                <a:gd name="adj2" fmla="val 119743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991000">
              <a:off x="5913360" y="4149360"/>
              <a:ext cx="216000" cy="1584360"/>
            </a:xfrm>
            <a:prstGeom prst="upDownArrow">
              <a:avLst>
                <a:gd name="adj1" fmla="val 50000"/>
                <a:gd name="adj2" fmla="val 146021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1640" y="4221000"/>
              <a:ext cx="216000" cy="1513080"/>
            </a:xfrm>
            <a:prstGeom prst="upDownArrow">
              <a:avLst>
                <a:gd name="adj1" fmla="val 50000"/>
                <a:gd name="adj2" fmla="val 139451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329400">
              <a:off x="3709800" y="4363560"/>
              <a:ext cx="215640" cy="1368720"/>
            </a:xfrm>
            <a:prstGeom prst="upDownArrow">
              <a:avLst>
                <a:gd name="adj1" fmla="val 50000"/>
                <a:gd name="adj2" fmla="val 12635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CF5A-F821-4871-B805-76E209569F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Problem Stat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pecify mapping between global concepts and local schema el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Query transformation (mediator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source syste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Data (result) translation (source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system media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Necessary for each participating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Complicated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Semantic and structural heterogene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Requiring domain knowled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approach for (semi-)automatic mapping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8C0D-FAE9-4F66-B748-9ABC9C8BAF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Concept-based Integration Mod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Representing domain knowledge: vocabulary, concept hierarchy, ontology,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ffff"/>
                </a:solidFill>
                <a:latin typeface="Garamond"/>
              </a:rPr>
              <a:t>Ontology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forms global schema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de-DE" sz="3200" spc="-1" strike="noStrike">
                <a:solidFill>
                  <a:srgbClr val="ffffff"/>
                </a:solidFill>
                <a:latin typeface="Garamond"/>
              </a:rPr>
              <a:t>Local as 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Ontology for given application dom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concepts, properties, relationshi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concepts as terminological „anchor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correspondences between global concepts and local representatio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object </a:t>
            </a:r>
            <a:r>
              <a:rPr b="0" i="1" lang="de-DE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in source </a:t>
            </a:r>
            <a:r>
              <a:rPr b="0" i="1" lang="de-DE" sz="24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 is an instance of concept </a:t>
            </a:r>
            <a:r>
              <a:rPr b="0" i="1" lang="de-DE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91EC-26F1-4293-A140-1D1FA9E7F1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Integration Model /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Concept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based on RDF Schema (RDF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classes, properties, constra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exten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Garamond"/>
              </a:rPr>
              <a:t>concepts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 as RDFS classes with extension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 class with queryable instances (extension) from sources (e.g., „painting“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Garamond"/>
              </a:rPr>
              <a:t>category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 as RDFS classes without extension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 used for attribute values in sources (e.g., motif „still life“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ata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objects as XML el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Exchange between sources ↔ media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aramond"/>
              </a:rPr>
              <a:t>Query formulation, representation of resul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3D4C-1190-4AD2-BE65-21ED36FD39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Sample Ont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6040440" y="5459400"/>
            <a:ext cx="977760" cy="38412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5e5ff"/>
                </a:solidFill>
                <a:latin typeface="Tahoma"/>
              </a:rPr>
              <a:t>concep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7960" y="5227560"/>
            <a:ext cx="977760" cy="38592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etch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5229360"/>
            <a:ext cx="1108080" cy="38556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xylograp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25600" y="4302000"/>
            <a:ext cx="978120" cy="38592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graph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4302000"/>
            <a:ext cx="978120" cy="38592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draw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11800" y="4302000"/>
            <a:ext cx="977760" cy="38592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ain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70200" y="3683160"/>
            <a:ext cx="977760" cy="38736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3683160"/>
            <a:ext cx="978120" cy="38736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cha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73400" y="2525760"/>
            <a:ext cx="977760" cy="38556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fine 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47840" y="2525760"/>
            <a:ext cx="977760" cy="38556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furni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0480" y="1600200"/>
            <a:ext cx="1433520" cy="385920"/>
          </a:xfrm>
          <a:prstGeom prst="rect">
            <a:avLst/>
          </a:prstGeom>
          <a:solidFill>
            <a:srgbClr val="c0c0c0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cultural as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6" idx="0"/>
            <a:endCxn id="217" idx="2"/>
          </p:cNvCxnSpPr>
          <p:nvPr/>
        </p:nvCxnSpPr>
        <p:spPr>
          <a:xfrm flipV="1">
            <a:off x="1836360" y="1995120"/>
            <a:ext cx="1011960" cy="52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9" name=""/>
          <p:cNvCxnSpPr>
            <a:stCxn id="215" idx="0"/>
            <a:endCxn id="217" idx="2"/>
          </p:cNvCxnSpPr>
          <p:nvPr/>
        </p:nvCxnSpPr>
        <p:spPr>
          <a:xfrm flipH="1" flipV="1">
            <a:off x="2847600" y="1995120"/>
            <a:ext cx="815040" cy="52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0" name=""/>
          <p:cNvCxnSpPr>
            <a:stCxn id="214" idx="0"/>
            <a:endCxn id="216" idx="2"/>
          </p:cNvCxnSpPr>
          <p:nvPr/>
        </p:nvCxnSpPr>
        <p:spPr>
          <a:xfrm flipV="1">
            <a:off x="1316160" y="2920680"/>
            <a:ext cx="521280" cy="753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1" name=""/>
          <p:cNvCxnSpPr>
            <a:stCxn id="213" idx="0"/>
            <a:endCxn id="216" idx="2"/>
          </p:cNvCxnSpPr>
          <p:nvPr/>
        </p:nvCxnSpPr>
        <p:spPr>
          <a:xfrm flipH="1" flipV="1">
            <a:off x="1836000" y="2920680"/>
            <a:ext cx="523080" cy="753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2" name=""/>
          <p:cNvCxnSpPr>
            <a:stCxn id="210" idx="0"/>
            <a:endCxn id="215" idx="2"/>
          </p:cNvCxnSpPr>
          <p:nvPr/>
        </p:nvCxnSpPr>
        <p:spPr>
          <a:xfrm flipV="1">
            <a:off x="2814120" y="2920680"/>
            <a:ext cx="848520" cy="1372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3" name=""/>
          <p:cNvCxnSpPr>
            <a:stCxn id="211" idx="0"/>
            <a:endCxn id="215" idx="2"/>
          </p:cNvCxnSpPr>
          <p:nvPr/>
        </p:nvCxnSpPr>
        <p:spPr>
          <a:xfrm flipH="1" flipV="1">
            <a:off x="3661560" y="2920680"/>
            <a:ext cx="196200" cy="1372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4" name=""/>
          <p:cNvCxnSpPr>
            <a:stCxn id="212" idx="0"/>
            <a:endCxn id="215" idx="2"/>
          </p:cNvCxnSpPr>
          <p:nvPr/>
        </p:nvCxnSpPr>
        <p:spPr>
          <a:xfrm flipH="1" flipV="1">
            <a:off x="3661920" y="2920680"/>
            <a:ext cx="1239120" cy="1372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5" name=""/>
          <p:cNvCxnSpPr>
            <a:stCxn id="208" idx="0"/>
            <a:endCxn id="210" idx="2"/>
          </p:cNvCxnSpPr>
          <p:nvPr/>
        </p:nvCxnSpPr>
        <p:spPr>
          <a:xfrm flipV="1">
            <a:off x="2166480" y="4696560"/>
            <a:ext cx="648360" cy="521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6" name=""/>
          <p:cNvCxnSpPr>
            <a:stCxn id="209" idx="0"/>
            <a:endCxn id="210" idx="2"/>
          </p:cNvCxnSpPr>
          <p:nvPr/>
        </p:nvCxnSpPr>
        <p:spPr>
          <a:xfrm flipH="1" flipV="1">
            <a:off x="2814120" y="4696560"/>
            <a:ext cx="656640" cy="523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27" name=""/>
          <p:cNvSpPr/>
          <p:nvPr/>
        </p:nvSpPr>
        <p:spPr>
          <a:xfrm>
            <a:off x="6367320" y="1832040"/>
            <a:ext cx="78120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mot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40440" y="5921280"/>
            <a:ext cx="977760" cy="38592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5e5ff"/>
                </a:solidFill>
                <a:latin typeface="Tahoma"/>
              </a:rPr>
              <a:t>categ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13680" y="2679840"/>
            <a:ext cx="78264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still li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07040" y="2679840"/>
            <a:ext cx="97632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landsc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2040" y="2679840"/>
            <a:ext cx="117324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coat of a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98960" y="3529080"/>
            <a:ext cx="104148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mounta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07040" y="3529080"/>
            <a:ext cx="976320" cy="38556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river/s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7960" y="4224240"/>
            <a:ext cx="782640" cy="38592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flow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40560" y="4224240"/>
            <a:ext cx="781200" cy="385920"/>
          </a:xfrm>
          <a:prstGeom prst="rect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fru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1" idx="0"/>
            <a:endCxn id="227" idx="2"/>
          </p:cNvCxnSpPr>
          <p:nvPr/>
        </p:nvCxnSpPr>
        <p:spPr>
          <a:xfrm flipV="1">
            <a:off x="5389200" y="2217240"/>
            <a:ext cx="1369080" cy="462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7" name=""/>
          <p:cNvCxnSpPr>
            <a:stCxn id="230" idx="0"/>
            <a:endCxn id="227" idx="2"/>
          </p:cNvCxnSpPr>
          <p:nvPr/>
        </p:nvCxnSpPr>
        <p:spPr>
          <a:xfrm flipV="1">
            <a:off x="6594480" y="2217240"/>
            <a:ext cx="164160" cy="462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8" name=""/>
          <p:cNvCxnSpPr>
            <a:stCxn id="229" idx="0"/>
            <a:endCxn id="227" idx="2"/>
          </p:cNvCxnSpPr>
          <p:nvPr/>
        </p:nvCxnSpPr>
        <p:spPr>
          <a:xfrm flipH="1" flipV="1">
            <a:off x="6757200" y="2217240"/>
            <a:ext cx="848520" cy="462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9" name=""/>
          <p:cNvCxnSpPr>
            <a:stCxn id="232" idx="0"/>
            <a:endCxn id="230" idx="2"/>
          </p:cNvCxnSpPr>
          <p:nvPr/>
        </p:nvCxnSpPr>
        <p:spPr>
          <a:xfrm flipV="1">
            <a:off x="5519520" y="3065040"/>
            <a:ext cx="1075320" cy="464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0" name=""/>
          <p:cNvCxnSpPr>
            <a:stCxn id="233" idx="0"/>
            <a:endCxn id="230" idx="2"/>
          </p:cNvCxnSpPr>
          <p:nvPr/>
        </p:nvCxnSpPr>
        <p:spPr>
          <a:xfrm flipV="1">
            <a:off x="6594120" y="3065040"/>
            <a:ext cx="1080" cy="464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1" name=""/>
          <p:cNvCxnSpPr>
            <a:stCxn id="234" idx="0"/>
            <a:endCxn id="229" idx="2"/>
          </p:cNvCxnSpPr>
          <p:nvPr/>
        </p:nvCxnSpPr>
        <p:spPr>
          <a:xfrm flipV="1">
            <a:off x="7018200" y="3064680"/>
            <a:ext cx="588240" cy="1159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2" name=""/>
          <p:cNvCxnSpPr>
            <a:stCxn id="235" idx="0"/>
            <a:endCxn id="229" idx="2"/>
          </p:cNvCxnSpPr>
          <p:nvPr/>
        </p:nvCxnSpPr>
        <p:spPr>
          <a:xfrm flipH="1" flipV="1">
            <a:off x="7605360" y="3064680"/>
            <a:ext cx="326160" cy="1159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3" name=""/>
          <p:cNvSpPr/>
          <p:nvPr/>
        </p:nvSpPr>
        <p:spPr>
          <a:xfrm>
            <a:off x="4151160" y="1600200"/>
            <a:ext cx="1108080" cy="385920"/>
          </a:xfrm>
          <a:prstGeom prst="ellipse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rt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13680" y="5459400"/>
            <a:ext cx="1108080" cy="384120"/>
          </a:xfrm>
          <a:prstGeom prst="ellipse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5e5ff"/>
                </a:solidFill>
                <a:latin typeface="Tahoma"/>
              </a:rPr>
              <a:t>proper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1832040"/>
            <a:ext cx="1108080" cy="385560"/>
          </a:xfrm>
          <a:prstGeom prst="ellipse">
            <a:avLst/>
          </a:prstGeom>
          <a:solidFill>
            <a:srgbClr val="0033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17" idx="1"/>
            <a:endCxn id="245" idx="6"/>
          </p:cNvCxnSpPr>
          <p:nvPr/>
        </p:nvCxnSpPr>
        <p:spPr>
          <a:xfrm flipH="1">
            <a:off x="1869480" y="1792080"/>
            <a:ext cx="253080" cy="232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7" name=""/>
          <p:cNvCxnSpPr>
            <a:stCxn id="215" idx="0"/>
            <a:endCxn id="243" idx="4"/>
          </p:cNvCxnSpPr>
          <p:nvPr/>
        </p:nvCxnSpPr>
        <p:spPr>
          <a:xfrm flipV="1">
            <a:off x="3661920" y="1985760"/>
            <a:ext cx="1043640" cy="530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8" name=""/>
          <p:cNvCxnSpPr>
            <a:stCxn id="215" idx="3"/>
            <a:endCxn id="227" idx="1"/>
          </p:cNvCxnSpPr>
          <p:nvPr/>
        </p:nvCxnSpPr>
        <p:spPr>
          <a:xfrm flipV="1">
            <a:off x="4159080" y="2023560"/>
            <a:ext cx="2208960" cy="696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9" name=""/>
          <p:cNvCxnSpPr/>
          <p:nvPr/>
        </p:nvCxnSpPr>
        <p:spPr>
          <a:xfrm>
            <a:off x="7278480" y="6229080"/>
            <a:ext cx="1043640" cy="1080"/>
          </a:xfrm>
          <a:prstGeom prst="straightConnector1">
            <a:avLst/>
          </a:prstGeom>
          <a:ln w="19080">
            <a:solidFill>
              <a:srgbClr val="e5e5ff"/>
            </a:solidFill>
            <a:miter/>
            <a:tailEnd len="med" type="arrow" w="med"/>
          </a:ln>
        </p:spPr>
      </p:cxnSp>
      <p:sp>
        <p:nvSpPr>
          <p:cNvPr id="250" name=""/>
          <p:cNvSpPr/>
          <p:nvPr/>
        </p:nvSpPr>
        <p:spPr>
          <a:xfrm rot="20686200">
            <a:off x="4642200" y="21031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rtr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76600" y="58672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5e5ff"/>
                </a:solidFill>
                <a:latin typeface="Tahoma"/>
              </a:rPr>
              <a:t>subClass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5300640"/>
            <a:ext cx="2736720" cy="1152720"/>
          </a:xfrm>
          <a:prstGeom prst="rect">
            <a:avLst/>
          </a:prstGeom>
          <a:noFill/>
          <a:ln cap="rnd" w="9360">
            <a:solidFill>
              <a:srgbClr val="e5e5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CE03-82C5-472C-9F99-688D4629554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Garamond"/>
              </a:rPr>
              <a:t>Logic-based Re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Facts</a:t>
            </a:r>
            <a:br>
              <a:rPr sz="32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concept(CulturalAsset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concept(FineArts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ub-concept(CulturalAsset, FineArts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operty(CulturalAsset, Title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Rules</a:t>
            </a:r>
            <a:br>
              <a:rPr sz="32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ub-concept(x, z) :-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ub-concept(x, y), sub-concept(y, z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operty(x, p) :-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ub-concept(y, x), property(y, p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340F-B96D-4E75-BE60-0B67136670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i-Uwe Sattl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20:18:21Z</dcterms:created>
  <dc:creator>Kai-Uwe Sattler</dc:creator>
  <dc:description/>
  <dc:language>en-US</dc:language>
  <cp:lastModifiedBy>Kai-Uwe Sattler</cp:lastModifiedBy>
  <dcterms:modified xsi:type="dcterms:W3CDTF">2003-08-23T12:25:58Z</dcterms:modified>
  <cp:revision>71</cp:revision>
  <dc:subject/>
  <dc:title>Konzeptbasierte Anfrageverarbeitung in Mediatorsystem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